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5F884-97C9-417E-B07A-395C92D530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C2897-1085-48CF-AC2B-4DF8B74FB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DC24A-5E75-42DD-9E06-5E30836D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5EAE1-18DB-4D7D-98D0-6E9341A6520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C573-77C8-45AB-ABCC-BE5330D57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B7705-32ED-4F4A-A4F0-1040FF9B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002CC-966A-4593-A3E8-F7DA9DCDA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2C7A-4C7A-4747-A270-1D45ED8D8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A72E5-7990-4C15-843C-32AC142C1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C6B804-A379-4BE0-9CE2-630AE08D6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0DD4B-701D-478F-8176-C8F7F919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64960"/>
            <a:ext cx="807732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3EC9-CE03-40D8-8A95-5B2868A42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1A067-3AC5-4750-A348-BBA7FD2C9AD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Click to edit the outline text format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698400" indent="-268560">
              <a:spcBef>
                <a:spcPts val="10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con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2" marL="107424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Third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3" marL="150408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our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4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Fif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5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ix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6" marL="1933920" indent="-214560">
              <a:spcBef>
                <a:spcPts val="1001"/>
              </a:spcBef>
              <a:buClr>
                <a:srgbClr val="046ca6"/>
              </a:buClr>
              <a:buFont typeface="华文新魏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ca6"/>
                </a:solidFill>
                <a:latin typeface="华文新魏"/>
              </a:rPr>
              <a:t>Seventh Outline Level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492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第一章</a:t>
            </a:r>
            <a:r>
              <a:rPr b="0" lang="en-US" sz="6000" spc="-1" strike="noStrike">
                <a:solidFill>
                  <a:srgbClr val="ffffff"/>
                </a:solidFill>
                <a:latin typeface="华文新魏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华文新魏"/>
              </a:rPr>
              <a:t>绪论</a:t>
            </a:r>
            <a:endParaRPr b="0" lang="en-US" sz="6000" spc="-1" strike="noStrike">
              <a:solidFill>
                <a:srgbClr val="ffffff"/>
              </a:solidFill>
              <a:latin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理论联系实际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既要重视基本理论、基本知识和基本技能，又要注意知识的更新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学习目标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识记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说出外科护理学的定义及范畴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理解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解释外科护理学与外科学的关系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2" marL="1143000" indent="-228600">
              <a:spcBef>
                <a:spcPts val="799"/>
              </a:spcBef>
              <a:buClr>
                <a:srgbClr val="046ca6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应用正确的方法学习外科护理学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主要内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及外科护理学的范畴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学和外科护理学的发展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如何学习外科护理学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ery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医学科学的一个重要组成部分，其范畴在医学的历史发展中逐渐形成，并不断变化发展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手术是外科工作的重要组成部分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一、外科学及外科护理学的范畴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外科护理学（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surgical nursing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）是护理学的一大分支，是研究外科患者身心康复的护理方法及预防保健的一门学科，主要包括医学基础理论、外科学的基础理论、护理学基础理论及技术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19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世纪</a:t>
            </a:r>
            <a:r>
              <a:rPr b="0" lang="en-US" sz="3200" spc="-1" strike="noStrike">
                <a:solidFill>
                  <a:srgbClr val="046ca6"/>
                </a:solidFill>
                <a:latin typeface="华文新魏"/>
              </a:rPr>
              <a:t>40</a:t>
            </a: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年代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lnSpc>
                <a:spcPct val="15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华文新魏"/>
              </a:rPr>
              <a:t>消毒灭菌和无菌技术、止血输血、麻醉止痛的问世，解决了长期困扰外科的感染、出血和疼痛等问题，成为外科学的三大里程碑，是外科学进入现代外科学的标志</a:t>
            </a:r>
            <a:endParaRPr b="0" lang="en-US" sz="32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二、外科学和外科护理学的发展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同一时期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南丁格尔在克里米亚战场上，通过清洁、消毒、换药、包扎伤口、改善休养环境等措施使伤员死亡率从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50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下降到</a:t>
            </a:r>
            <a:r>
              <a:rPr b="0" lang="en-US" sz="3600" spc="-1" strike="noStrike">
                <a:solidFill>
                  <a:srgbClr val="046ca6"/>
                </a:solidFill>
                <a:latin typeface="华文新魏"/>
              </a:rPr>
              <a:t>2.2%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，首次以无可辩驳的事实向社会显示了护理在外科发展中的重要作用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以现代的护理观为指导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贯彻整体护理的思想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运用科学的护理程序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护理是科学也是艺术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</a:rPr>
              <a:t>三、如何学习外科护理学</a:t>
            </a:r>
            <a:endParaRPr b="0" lang="en-US" sz="3600" spc="-1" strike="noStrike">
              <a:solidFill>
                <a:srgbClr val="ffffff"/>
              </a:solidFill>
              <a:latin typeface="华文新魏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46ca6"/>
                </a:solidFill>
                <a:latin typeface="华文新魏"/>
              </a:rPr>
              <a:t>掌握外科护理学的特点</a:t>
            </a:r>
            <a:endParaRPr b="0" lang="en-US" sz="40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 </a:t>
            </a: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范畴疾病的病情复杂多变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外科急诊多、抢救多，卧床患者多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华文新魏"/>
              </a:rPr>
              <a:t>应树立高度的责任心，勤于思考，及时有效地挽救患者的生命</a:t>
            </a:r>
            <a:endParaRPr b="0" lang="en-US" sz="3600" spc="-1" strike="noStrike">
              <a:solidFill>
                <a:srgbClr val="046ca6"/>
              </a:solidFill>
              <a:latin typeface="华文新魏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zhaoxin</cp:lastModifiedBy>
  <dcterms:modified xsi:type="dcterms:W3CDTF">2015-04-20T13:13:28Z</dcterms:modified>
  <cp:revision>88</cp:revision>
  <dc:subject/>
  <dc:title>内科护理学</dc:title>
</cp:coreProperties>
</file>